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7FC7-823A-4BCE-ACE8-59819742F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9F3F-3F96-41EB-8F59-2D328EBF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16FF-7A99-4B39-AA03-1BD694ED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5E42-8B67-4EEA-87C8-BB787091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7810-8B79-430F-B8EA-59C66D2F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777F-39F1-420C-82B9-87E53157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0B5B-3C27-4C8F-8500-D37DA367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A887-D971-4BFF-9A7A-344AAD27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2E6E-412D-4771-A8C3-5211FDAA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B018-F557-4F28-8BAC-72A5EA5E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05E7-C367-44EE-95BF-4F31794D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96F4-02F1-4317-B598-EFED0B15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A063-52C3-4865-96BA-C87F79758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web.mit.edu/invent/iow/baer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1676520"/>
            <a:ext cx="7010280" cy="1676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596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ideo Gam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5029200"/>
            <a:ext cx="1905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ward 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3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Horizontal rectangle video game screenshot that is a representation of a game of table tennis."/>
          <p:cNvPicPr/>
          <p:nvPr/>
        </p:nvPicPr>
        <p:blipFill>
          <a:blip r:embed="rId1"/>
          <a:stretch/>
        </p:blipFill>
        <p:spPr>
          <a:xfrm>
            <a:off x="2895480" y="228600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V="1" rot="10800000">
            <a:off x="6400440" y="2661120"/>
            <a:ext cx="25909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kipedi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28/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n.wikipedia.org/wiki/Po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Photograph of a dedicated video game console with two input devices connected to it with cables."/>
          <p:cNvPicPr/>
          <p:nvPr/>
        </p:nvPicPr>
        <p:blipFill>
          <a:blip r:embed="rId2"/>
          <a:stretch/>
        </p:blipFill>
        <p:spPr>
          <a:xfrm>
            <a:off x="3733920" y="4572000"/>
            <a:ext cx="259056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295280" y="2819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14400" y="457200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mak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/3/11 www.freeplaymusic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06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Baer"/>
          <p:cNvPicPr/>
          <p:nvPr/>
        </p:nvPicPr>
        <p:blipFill>
          <a:blip r:embed="rId1"/>
          <a:srcRect l="8325" t="5266" r="11124" b="5266"/>
          <a:stretch/>
        </p:blipFill>
        <p:spPr>
          <a:xfrm>
            <a:off x="1143000" y="2895480"/>
            <a:ext cx="2144880" cy="2133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Baer"/>
          <p:cNvPicPr/>
          <p:nvPr/>
        </p:nvPicPr>
        <p:blipFill>
          <a:blip r:embed="rId2"/>
          <a:stretch/>
        </p:blipFill>
        <p:spPr>
          <a:xfrm>
            <a:off x="1143000" y="1066680"/>
            <a:ext cx="6781680" cy="1828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038480" y="4343400"/>
            <a:ext cx="4648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con Ml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A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28/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bae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Video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ook some groundbreaking creativity innovation and exceptional vision for this multi-billion-dollar business to come into exis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67 pong was inv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first home video game console in 1972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world’s fastest growing and most popular forms of entertain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light guns (allowed you to shoot at  the T.V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sole’s was named Magnav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Ralph Ba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lph Baer was born in Germ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lph Baer was born on March 8,192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lph Baer was often called father of home video ga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light gu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lph Baer was evolved in a multi-billion-dollar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lph Baer operated three radio service stores in New York City from 1940-1943,before beginning drafting in to the U.S. Army to serve in WW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8:34:09Z</dcterms:created>
  <dc:creator>install</dc:creator>
  <dc:description/>
  <dc:language>en-US</dc:language>
  <cp:lastModifiedBy>install</cp:lastModifiedBy>
  <dcterms:modified xsi:type="dcterms:W3CDTF">2011-03-11T18:37:46Z</dcterms:modified>
  <cp:revision>13</cp:revision>
  <dc:subject/>
  <dc:title>Slide 1</dc:title>
</cp:coreProperties>
</file>